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BA4-231A-4A5E-9EBF-E5FAB26A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64E-8A8A-4011-8175-9E6766C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929-A6C4-484B-9CC8-9755C0F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BE4-AA9E-4BF7-B5E8-42670BCA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D5D-F9DB-449B-963D-65C39D5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174-1E1B-4244-BAE9-265A0BC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DFF-1150-4A79-A62D-F7D909BD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C3D-87AA-47FA-9167-B40E7F48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7A2-8717-4AF9-82AA-1471DAE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66D-9B16-4220-9251-7636564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AC6-0F57-45A4-8F66-D75227B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9D9-FCAA-469B-8D70-7B94FFE5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31A6-82EB-418D-987E-4726D2E2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tune of: my bonny lies over the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423720"/>
            <a:ext cx="738036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ois un cochon dans le sal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écoute une souris sous le l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l y a un poisson sur le bal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Et une tortue est sous le ta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 donc, dis don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ez nous, c’est un peu comme un z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178920" y="321300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87640" y="3213000"/>
            <a:ext cx="122400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3357720"/>
            <a:ext cx="1224000" cy="7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67640" y="3429000"/>
            <a:ext cx="1093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04640"/>
            <a:ext cx="76327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l y a un canard dans le pla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chien est dans la salle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perroquet  est sous l’esca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is dis-moi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ù est le 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-moi, dis-m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 moi où est le lapin, enf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-moi dis-mo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 moi où est le lap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1168560" cy="141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2555640" y="3068640"/>
            <a:ext cx="1747800" cy="103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2492280"/>
            <a:ext cx="1360440" cy="186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1136520" cy="146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88000" y="623736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38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. Ke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3:14:18Z</dcterms:created>
  <dc:creator>Portables for KS3 Consultants </dc:creator>
  <dc:description/>
  <dc:language>en-US</dc:language>
  <cp:lastModifiedBy>20022714</cp:lastModifiedBy>
  <dcterms:modified xsi:type="dcterms:W3CDTF">2005-10-04T14:59:1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2183431</vt:r8>
  </property>
  <property fmtid="{D5CDD505-2E9C-101B-9397-08002B2CF9AE}" pid="3" name="_AuthorEmail">
    <vt:lpwstr>Chris.Kelly@sheffield.gov.uk</vt:lpwstr>
  </property>
  <property fmtid="{D5CDD505-2E9C-101B-9397-08002B2CF9AE}" pid="4" name="_AuthorEmailDisplayName">
    <vt:lpwstr>Kelly Chris (ED)</vt:lpwstr>
  </property>
  <property fmtid="{D5CDD505-2E9C-101B-9397-08002B2CF9AE}" pid="5" name="_EmailSubject">
    <vt:lpwstr>texts</vt:lpwstr>
  </property>
  <property fmtid="{D5CDD505-2E9C-101B-9397-08002B2CF9AE}" pid="6" name="_ReviewingToolsShownOnce">
    <vt:lpwstr/>
  </property>
</Properties>
</file>